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18B8-C046-4393-B5B6-0AABF5BB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B979-1898-434C-91CD-9CD0F86A7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EF7D-61DB-4E40-9975-AEE374A9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E1F2-75A6-4B29-9C91-1B95B132E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86745-457E-4B30-A025-C59022EA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54342A-7E79-4AB3-BC94-AB2A4C36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13461-D3D8-434B-8C26-72A8E8FBD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AEB6-3207-443A-969C-1BF478D1C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1D6498-0241-4D2E-9558-949C9AB1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DE458-AA3F-4038-A889-42FEBFF6C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23D70-9710-4A59-91A3-CEB35A65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BE8-7F7D-49A0-A2C1-17187C7E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FAC85-2BD6-4E5D-B58E-4624AB07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CF9C3B-C9DA-48E7-A84E-ED433CD0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CA80B-2912-4A8F-90AC-129341B85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03B4-C59A-4182-8467-990FA8896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73A83-9404-489A-81A9-2D72B5A9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A190-7F72-43EB-8245-8D832E58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717C-95DB-4619-830F-9CEEA334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D9D-4FEB-4788-8D1A-19068605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561B-EC02-4549-BAB7-3EFD630B4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FA2A-BD34-4A21-B094-A869291A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EB34-9B96-44C4-B33F-1C8C56B5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B09-1121-4CA7-BD9F-01DBDFF4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5359-70CD-4E2E-BDA9-23C044D411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CA426-C6BE-443B-8865-A6053C8BF1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FUNKCJA  LOGARYTMICZNA</a:t>
            </a:r>
            <a:br>
              <a:rPr sz="4400"/>
            </a:b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Tahoma"/>
              </a:rPr>
              <a:t>Opracowała: </a:t>
            </a:r>
            <a:r>
              <a:rPr b="0" lang="pl-PL" sz="2000" spc="-1" strike="noStrike">
                <a:solidFill>
                  <a:srgbClr val="ffffff"/>
                </a:solidFill>
                <a:latin typeface="Tahoma"/>
              </a:rPr>
              <a:t>Grażyna Stoczkiewic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1cb75"/>
                </a:solidFill>
                <a:latin typeface="Tahoma"/>
              </a:rPr>
              <a:t>DZIĘKUJĘ  ZA  UWAGĘ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771640" y="2492280"/>
            <a:ext cx="388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000"/>
                            </p:stCondLst>
                            <p:childTnLst>
                              <p:par>
                                <p:cTn id="54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cb75"/>
                </a:solidFill>
                <a:latin typeface="Tahoma"/>
              </a:rPr>
              <a:t>SPIS  TREŚCI</a:t>
            </a:r>
            <a:endParaRPr b="0" lang="en-US" sz="44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Co to jest funkcj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ykres funkcji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Dziedzi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iejsca zerow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Monotoniczność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artości funkcj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Własnośc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300720" y="4005360"/>
            <a:ext cx="165744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500"/>
                            </p:stCondLst>
                            <p:childTnLst>
                              <p:par>
                                <p:cTn id="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8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8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9500"/>
                            </p:stCondLst>
                            <p:childTnLst>
                              <p:par>
                                <p:cTn id="6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8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2500"/>
                            </p:stCondLst>
                            <p:childTnLst>
                              <p:par>
                                <p:cTn id="9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Co to jest funkcja?</a:t>
            </a:r>
            <a:br>
              <a:rPr sz="4000"/>
            </a:b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FUNKCJA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– odwzorowanie, które 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Tahoma"/>
              </a:rPr>
              <a:t>każdemu elementowi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ze zbioru X (dziedziny) przyporządkowuje </a:t>
            </a:r>
            <a:r>
              <a:rPr b="0" lang="pl-PL" sz="2400" spc="-1" strike="noStrike" u="sng">
                <a:solidFill>
                  <a:srgbClr val="ffffff"/>
                </a:solidFill>
                <a:uFillTx/>
                <a:latin typeface="Tahoma"/>
              </a:rPr>
              <a:t>dokładnie jeden element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ze zbioru Y (przeciwdziedzin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64000" y="2205000"/>
            <a:ext cx="32403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9500"/>
                            </p:stCondLst>
                            <p:childTnLst>
                              <p:par>
                                <p:cTn id="1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c1cb75"/>
                </a:solidFill>
                <a:latin typeface="Tahoma"/>
              </a:rPr>
              <a:t>Wykres  funkcji logarytmicznej</a:t>
            </a: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c1cb75"/>
                </a:solidFill>
                <a:latin typeface="Tahoma"/>
              </a:rPr>
              <a:t>y = logax</a:t>
            </a:r>
            <a:endParaRPr b="0" lang="en-US" sz="36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Dla a&gt;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Tahoma"/>
              </a:rPr>
              <a:t>Dla a&lt;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708360" y="4365720"/>
            <a:ext cx="2403360" cy="1981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156360" y="1916280"/>
            <a:ext cx="24033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3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0500"/>
                            </p:stCondLst>
                            <p:childTnLst>
                              <p:par>
                                <p:cTn id="1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2500"/>
                            </p:stCondLst>
                            <p:childTnLst>
                              <p:par>
                                <p:cTn id="1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Dziedzina funkcji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Dziedzina</a:t>
            </a: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 – to zbiór liczbowy, dla którego funkcja ma se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ziedziną f.logarytmicznej jest zbiór liczb rzeczywistych dodatn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Tahoma"/>
              </a:rPr>
              <a:t>X </a:t>
            </a:r>
            <a:r>
              <a:rPr b="1" lang="pl-PL" sz="2400" spc="-1" strike="noStrike">
                <a:solidFill>
                  <a:srgbClr val="ffffff"/>
                </a:solidFill>
                <a:latin typeface="Tahoma"/>
                <a:ea typeface="Tahoma"/>
              </a:rPr>
              <a:t>€ (0, ∞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318280" y="2806560"/>
            <a:ext cx="2698560" cy="23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9500"/>
                            </p:stCondLst>
                            <p:childTnLst>
                              <p:par>
                                <p:cTn id="2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Miejsca zerowe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iejsce zerowe funkcji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– miejsce (wartość argumentu x) dla którego funkcja przyjmuje wartość zer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a funkcji logarytmicznej miejsce zerowe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X =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000"/>
                            </p:stCondLst>
                            <p:childTnLst>
                              <p:par>
                                <p:cTn id="26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9000"/>
                            </p:stCondLst>
                            <p:childTnLst>
                              <p:par>
                                <p:cTn id="28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c1cb75"/>
                </a:solidFill>
                <a:latin typeface="Tahoma"/>
              </a:rPr>
              <a:t>Monotoniczność funkcji</a:t>
            </a:r>
            <a:br>
              <a:rPr sz="4000"/>
            </a:br>
            <a:r>
              <a:rPr b="0" lang="pl-PL" sz="4000" spc="-1" strike="noStrike">
                <a:solidFill>
                  <a:srgbClr val="c1cb75"/>
                </a:solidFill>
                <a:latin typeface="Tahoma"/>
              </a:rPr>
              <a:t>y=logax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a a&gt;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ja jest rosną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la a&lt;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unkcja jest maleją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877000" y="2043000"/>
            <a:ext cx="1581120" cy="17049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508720" y="4038480"/>
            <a:ext cx="20160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21000"/>
                            </p:stCondLst>
                            <p:childTnLst>
                              <p:par>
                                <p:cTn id="3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3000"/>
                            </p:stCondLst>
                            <p:childTnLst>
                              <p:par>
                                <p:cTn id="3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8000"/>
                            </p:stCondLst>
                            <p:childTnLst>
                              <p:par>
                                <p:cTn id="4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Wartości funkcji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artości funkcji logarytmicznej (przeciwdziedzina) należą do zbioru liczb rzeczywistych, można je odczytać korzystając z jej wykres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6124680" y="3486240"/>
            <a:ext cx="10857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8000"/>
                            </p:stCondLst>
                            <p:childTnLst>
                              <p:par>
                                <p:cTn id="4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cb75"/>
                </a:solidFill>
                <a:latin typeface="Tahoma"/>
              </a:rPr>
              <a:t>Własności funkcji logarytmicznej</a:t>
            </a:r>
            <a:endParaRPr b="0" lang="en-US" sz="4000" spc="-1" strike="noStrike">
              <a:solidFill>
                <a:srgbClr val="c1cb75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Wykres każdej funkcji logarytmicznej przechodzi przez punkt (1, 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la a &gt; o funkcja  jest rosną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la a &lt; 0 funkcja jest maleją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Dziedziną funkcji jest zbiór liczb rzeczywistych dodatni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ahoma"/>
              </a:rPr>
              <a:t>Przeciwdziedziną jest zbiór liczb rzeczywistyc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5500"/>
                            </p:stCondLst>
                            <p:childTnLst>
                              <p:par>
                                <p:cTn id="45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7500"/>
                            </p:stCondLst>
                            <p:childTnLst>
                              <p:par>
                                <p:cTn id="47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9500"/>
                            </p:stCondLst>
                            <p:childTnLst>
                              <p:par>
                                <p:cTn id="4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21500"/>
                            </p:stCondLst>
                            <p:childTnLst>
                              <p:par>
                                <p:cTn id="5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3500"/>
                            </p:stCondLst>
                            <p:childTnLst>
                              <p:par>
                                <p:cTn id="5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1:03:33Z</dcterms:created>
  <dc:creator>Administrator</dc:creator>
  <dc:description/>
  <dc:language>en-US</dc:language>
  <cp:lastModifiedBy>Administrator</cp:lastModifiedBy>
  <dcterms:modified xsi:type="dcterms:W3CDTF">2003-03-21T10:17:29Z</dcterms:modified>
  <cp:revision>39</cp:revision>
  <dc:subject/>
  <dc:title>FUNKCJA  WYKŁADNICZA</dc:title>
</cp:coreProperties>
</file>